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35EE4-7818-435A-B259-121A949E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9F97A-4014-4FF4-9F6A-521EC7A3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11517-55C7-4228-A299-DDF6378B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A8BD6-408C-45B6-9725-3CBD28C6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72F2-4B64-4041-86EF-51022D72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3416-327F-4E42-8707-FD53C640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5384-DEAB-4769-878B-16AC25B8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3ACD-2EC9-4F36-B611-D6133C86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C400-D9B3-4AA0-A4E0-578B95CA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1996-4E5C-4300-8C13-03AE9511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EB61-8D4A-493F-9E49-8E84296B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4F24D-DDB8-40DF-93C0-A7D28414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D7C2-CFE7-4C5F-93F5-C7B4C073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D0D2-191F-4A41-830F-E5F5E238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2221-C2FC-431F-AF61-0092C4FD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5105-C8CB-4837-8E9C-1F3EC0D6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5AEC-9A93-4318-A213-86C89856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2270B-990B-43B3-BE32-2BD8F505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93B84-0BFF-4C6D-B1F4-FC921F9B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42153-775B-4E85-B4CD-0959463A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8FE6D-DFF4-481A-B801-5B950EBF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6C221-B5F0-4815-B010-075FFC94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197A4-751A-486E-9596-4238E26E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8AAC9-C327-47A6-BB2D-80AEF52E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B08B-0C0E-4B98-8684-19B7103B23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7A94-33DC-488B-82CA-BEF0CDD0FA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dding Text While PowerPoint Is Runni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son 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ding Tex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905040" y="1560600"/>
            <a:ext cx="5936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 Notes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m newstuff as St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stuff= InputBox("Type your message here!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newstuff &lt;&gt; ""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ActivePresentation.SlideShowWindow.View. Slide 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Shapes(2).TextFrame.TextR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Text = .Text +Chr$(13) + newstu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2960" y="4876920"/>
            <a:ext cx="8453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The name of the sub routine is Notes.  The variable is newstuff and we are s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the information as String( words or letters).  The &lt;&gt; "" tells the computer that w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want some kind of answer. The chr$(13) does a new line.  The fifth line tells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following when the presentation is running in shape 2 add the variable newstuf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You must keep track on the number f the textbox. Every object on a slide has a nu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6172200"/>
            <a:ext cx="15264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56386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46483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4040" y="3998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00760" y="1027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11430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0600" y="9144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09280" y="2895480"/>
            <a:ext cx="453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that every object that you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the screen has a numb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6:28:15Z</dcterms:created>
  <dc:creator>jnatale</dc:creator>
  <dc:description/>
  <dc:language>en-US</dc:language>
  <cp:lastModifiedBy>jnatale</cp:lastModifiedBy>
  <dcterms:modified xsi:type="dcterms:W3CDTF">2009-02-19T16:31:25Z</dcterms:modified>
  <cp:revision>3</cp:revision>
  <dc:subject/>
  <dc:title>Adding Text While PowerPoint Is Running</dc:title>
</cp:coreProperties>
</file>